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01FC-EA47-486C-BE64-D347CC6B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83B-6347-4E8B-BC8B-A9E00182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6667-9322-48D6-BE15-A8E438C4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156-07BE-4AA7-B37D-4661A2F8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A9CA-6DD5-470F-A23A-AF05CB24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96EF-33C6-40C8-A300-1D3F2CA5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6304-05B9-41D8-BFAA-EB93F76B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F836-E354-46C3-8EA0-66B89D64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9CCF-CD37-4415-B34E-9B9CE783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CEC6-5B44-4C82-A0D9-13880028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4AE-CADA-4B84-9B1D-58015059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2A15-3D34-4928-B3AB-37074132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8506-73C4-4EB0-B36D-6ED1A5FCB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00"/>
                </a:solidFill>
                <a:latin typeface="Arial"/>
              </a:rPr>
              <a:t>Me llamo ____________         Clase 702</a:t>
            </a:r>
            <a:br>
              <a:rPr sz="3800"/>
            </a:br>
            <a:r>
              <a:rPr b="0" lang="en-US" sz="3800" spc="-1" strike="noStrike">
                <a:solidFill>
                  <a:srgbClr val="006600"/>
                </a:solidFill>
                <a:latin typeface="Arial"/>
              </a:rPr>
              <a:t>La fecha es el 21 de septiembre del 20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3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¿Como seguimos el repaso del año pas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PRONOMBRE usam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 amigo y yo’: 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urself’: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las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Roberto: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las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d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Roberto: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las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Katia: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las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d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Katia: 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9"/>
          <p:cNvSpPr/>
          <p:nvPr/>
        </p:nvSpPr>
        <p:spPr>
          <a:xfrm>
            <a:off x="6248520" y="2093760"/>
            <a:ext cx="2590560" cy="9471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Con=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de= Of,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rb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os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verbo S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o 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cion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981080" y="1371600"/>
            <a:ext cx="7086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700" spc="-1" strike="noStrike">
                <a:solidFill>
                  <a:srgbClr val="0000ff"/>
                </a:solidFill>
                <a:latin typeface="Arial"/>
              </a:rPr>
              <a:t>(Verbs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Son palabras de accion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700" spc="-1" strike="noStrike">
                <a:solidFill>
                  <a:srgbClr val="0000ff"/>
                </a:solidFill>
                <a:latin typeface="Arial"/>
              </a:rPr>
              <a:t>(Are action word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905120" y="297180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Ser” se usa para descripciones físicas.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700" spc="-1" strike="noStrike">
                <a:solidFill>
                  <a:srgbClr val="0000ff"/>
                </a:solidFill>
                <a:latin typeface="Arial"/>
              </a:rPr>
              <a:t>(“Ser” is used for physical description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819520" y="3735360"/>
            <a:ext cx="63244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700" spc="-1" strike="noStrike">
                <a:solidFill>
                  <a:srgbClr val="0000ff"/>
                </a:solidFill>
                <a:latin typeface="Arial"/>
              </a:rPr>
              <a:t>(Conjugation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Significa cambiar el verbo para poder usarlo. Por ejemplo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-Carlos SER fuerte    -Carlos </a:t>
            </a:r>
            <a:r>
              <a:rPr b="0" lang="es-ES_tradnl" sz="2700" spc="-1" strike="noStrike" u="sng">
                <a:solidFill>
                  <a:srgbClr val="008000"/>
                </a:solidFill>
                <a:uFillTx/>
                <a:latin typeface="Arial"/>
              </a:rPr>
              <a:t>es</a:t>
            </a: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 fuer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700" spc="-1" strike="noStrike">
                <a:solidFill>
                  <a:srgbClr val="0000ff"/>
                </a:solidFill>
                <a:latin typeface="Arial"/>
              </a:rPr>
              <a:t>(means to change a verb in order to use i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700" spc="-1" strike="noStrike">
                <a:solidFill>
                  <a:srgbClr val="0000ff"/>
                </a:solidFill>
                <a:latin typeface="Arial"/>
              </a:rPr>
              <a:t>-Carlos TO BE strong. -Carlos </a:t>
            </a:r>
            <a:r>
              <a:rPr b="0" i="1" lang="es-ES_tradnl" sz="2700" spc="-1" strike="noStrike" u="sng">
                <a:solidFill>
                  <a:srgbClr val="008000"/>
                </a:solidFill>
                <a:uFillTx/>
                <a:latin typeface="Arial"/>
              </a:rPr>
              <a:t>is</a:t>
            </a:r>
            <a:r>
              <a:rPr b="0" i="1" lang="es-ES_tradnl" sz="2700" spc="-1" strike="noStrike">
                <a:solidFill>
                  <a:srgbClr val="0000ff"/>
                </a:solidFill>
                <a:latin typeface="Arial"/>
              </a:rPr>
              <a:t> stro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>
            <a:off x="4108320" y="508320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4152960" y="5082840"/>
            <a:ext cx="6858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114800" y="632448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 flipV="1">
            <a:off x="4114800" y="6324120"/>
            <a:ext cx="6858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609480" y="-125280"/>
            <a:ext cx="826164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Book Antiqua"/>
              </a:rPr>
              <a:t>Repaso de Gram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SER (conjugació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conjugar un verbo debemos SIEMPRE escribir los pronombres EN ORDE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(To conjugate a verb we must ALWAYS write the pronouns IN ORDE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590920" y="2730600"/>
            <a:ext cx="41907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Y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T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É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Ell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U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Nosotr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Ell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Ell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ff"/>
                </a:solidFill>
                <a:latin typeface="Arial"/>
              </a:rPr>
              <a:t>U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3505320" y="5486400"/>
            <a:ext cx="380880" cy="3808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 flipV="1">
            <a:off x="3505320" y="5867280"/>
            <a:ext cx="380880" cy="457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3124080" y="3886200"/>
            <a:ext cx="381240" cy="3808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V="1">
            <a:off x="3124080" y="4267080"/>
            <a:ext cx="381240" cy="457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343400" y="2730600"/>
            <a:ext cx="41911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8000"/>
                </a:solidFill>
                <a:latin typeface="Arial"/>
              </a:rPr>
              <a:t>So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8000"/>
                </a:solidFill>
                <a:latin typeface="Arial"/>
              </a:rPr>
              <a:t>E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8000"/>
                </a:solidFill>
                <a:latin typeface="Arial"/>
              </a:rPr>
              <a:t>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8000"/>
                </a:solidFill>
                <a:latin typeface="Arial"/>
              </a:rPr>
              <a:t>Som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8000"/>
                </a:solidFill>
                <a:latin typeface="Arial"/>
              </a:rPr>
              <a:t>S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1220400" y="48006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*…y y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I-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 e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e qué nacionalidad e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ónde eres alumno o alum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 tu escuela?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II-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ompleta con la forma correcta de 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0" lang="es-ES_tradnl" sz="2000" spc="-1" strike="noStrike">
                <a:solidFill>
                  <a:srgbClr val="006600"/>
                </a:solidFill>
                <a:latin typeface="Arial"/>
              </a:rPr>
              <a:t>(1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 un amiga de Luisa. Luisa </a:t>
            </a:r>
            <a:r>
              <a:rPr b="0" lang="es-ES_tradnl" sz="2000" spc="-1" strike="noStrike">
                <a:solidFill>
                  <a:srgbClr val="006600"/>
                </a:solidFill>
                <a:latin typeface="Arial"/>
              </a:rPr>
              <a:t>(2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 muy simpática. Y ella </a:t>
            </a:r>
            <a:r>
              <a:rPr b="0" lang="es-ES_tradnl" sz="2000" spc="-1" strike="noStrike">
                <a:solidFill>
                  <a:srgbClr val="006600"/>
                </a:solidFill>
                <a:latin typeface="Arial"/>
              </a:rPr>
              <a:t>(3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 graciosa. Luisa y yo </a:t>
            </a:r>
            <a:r>
              <a:rPr b="0" lang="es-ES_tradnl" sz="2000" spc="-1" strike="noStrike">
                <a:solidFill>
                  <a:srgbClr val="006600"/>
                </a:solidFill>
                <a:latin typeface="Arial"/>
              </a:rPr>
              <a:t>(4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 colombianas. </a:t>
            </a:r>
            <a:r>
              <a:rPr b="0" lang="es-ES_tradnl" sz="2000" spc="-1" strike="noStrike">
                <a:solidFill>
                  <a:srgbClr val="006600"/>
                </a:solidFill>
                <a:latin typeface="Arial"/>
              </a:rPr>
              <a:t>(5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 de la Colomb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distrubuida REPASO DEL VERBO 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7:56:50Z</dcterms:created>
  <dc:creator>Helen Zumaeta</dc:creator>
  <dc:description/>
  <dc:language>en-US</dc:language>
  <cp:lastModifiedBy>Helen Zumaeta</cp:lastModifiedBy>
  <cp:lastPrinted>2015-09-21T13:24:46Z</cp:lastPrinted>
  <dcterms:modified xsi:type="dcterms:W3CDTF">2015-09-21T18:12:09Z</dcterms:modified>
  <cp:revision>18</cp:revision>
  <dc:subject/>
  <dc:title>Me llamo _________         Clase 6NH/IL La fecha es el 16 de diciembre del 2010</dc:title>
</cp:coreProperties>
</file>